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</p:sldIdLst>
  <p:sldSz cx="9180513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9A9B2-D829-4362-864E-8AD263652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51772-93E9-47E4-A986-BD30A18E9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5B079-B2BC-46CE-92C8-C2A9BC1D1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3C89D-5DBF-4A2A-996C-E11EC4E9E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34281-90B0-4350-9333-0F50D8073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1204C-F655-4EE1-9856-B4774EE8C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3480A-BBD4-4720-9273-BEAAE5C56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6D8C8-A6E3-4DC8-A8DD-C916199D4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20B03-24DC-4055-ABE0-EE4D8F1B3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11E8A-41AC-4907-8F9F-684C7AC63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F0458-15ED-495F-AEF5-79A7A2C4E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01DDD-DAC7-49B9-97DE-69804E106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5FF4C-6B08-4903-9A5D-01983AC68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9FE91-CAC1-461A-BD97-087D642CE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FA04C-39F6-4E20-9BE0-0AFD48AB8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08D2C-0DF7-4576-8851-6A79BDAF9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23959-7D1D-40D6-945B-D69C3D5B9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DFA414-BD36-4DE2-B503-9E0247AA9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62CAA9-EC72-40E8-A7B1-3357170BB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6083B9-E323-49A9-B09E-8F6E501A9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6DF14F-7D3E-46E8-BF41-7C723A286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1A15B3-2AB7-4114-A444-2FD5A5ED9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28F40-CBC8-42B3-A904-155BCC9C8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03453A-6C42-4B06-9C9C-148B611CA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10E768-F5FD-4A07-B608-82B77B8E5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2F982B-BE12-4B2B-883E-AD2D4F2E3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EC95E5-41E5-49B2-9E54-E177CB4E9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0502DB-7585-4D29-8D95-503989FE7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67A6F9-C092-4950-9300-FBF6E1E76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579C7E-5521-431D-8D73-2A1D9F328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D0FC48-C30B-4052-A784-BD834FF91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939575-2A50-4E01-9662-CB79F3D4E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3F5C07-EA79-44F6-8C64-C83E39B81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75578-F0BF-487F-9DE3-B6A58BF83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49B27C-50D4-481C-BE97-32A2BB3B5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18AE5B-CF23-43A5-885C-CFC702CD7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5A2851-B70F-4055-A92D-92363582D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DE657E-2C7D-4E3B-9A87-82C2E317A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B67224-E03B-4E8A-ACF2-82202475F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3FA963-D929-48C0-BD11-3BB4712D5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F42D62-B470-47D4-8558-669BD77B5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3C2C66-836E-4BF7-B45A-9DFEF83B9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1D517A-FAC7-4BD2-8294-F6D141AE1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E7F900-6D9E-46A0-965F-B80DCDC48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65B7C-DCDD-4837-BB3D-A82D97C80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5A92E9-323E-44FE-AE53-7999CDABA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A2787B-019C-437D-9F3A-4EE3EA9F5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8D60AB-7152-4BC9-84BB-9823BDBA9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61CC1C-1F38-4396-B086-D778C1029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D1AFFC-2F2F-4B58-B044-E69674FA9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248D53-09B4-448E-B4C2-C96B845B3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6A79D5-0AE9-430A-99AE-0A1514667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F5AEAF-E6F4-421B-A529-7024E8DF1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ADA28D-CC33-4C30-A4BD-FD6F0AF84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9E830E-569D-4172-9416-F06F40D1C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EA483-14ED-417E-9046-15F6BAFD8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17B884-F786-4AC1-924A-EFA5A7DFF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61D705-C6B1-4BC2-8A54-591256915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E8EEEA-9CE0-4840-8C27-0DADB4666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236D70-6A4D-46E9-A272-5E69875E5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9D5065-2E4B-415F-AFF4-246EFAFB1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906F35-5F45-46E6-8FF6-4EE0E6E96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59C75B-0CC9-480D-B50F-2DD237251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C0A643-04EE-416C-80A3-143698C3E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2FEFE3-3633-485A-9BE4-54AD70480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2A40AE-6FCA-436E-B854-011B89473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D6E0E-8DBF-4F6E-9976-6621D400D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DFBA3F-9A5F-40CA-86FB-30C326FD3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D0E8A2-F0BD-4688-AF27-08D75772C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041586-E8EC-46B1-88C1-D8C7C2424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4E0A4-BBDC-4444-A954-0674199CC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87DEF-2D10-483A-A9BE-11D1E1047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49280" cy="6876360"/>
            <a:chOff x="0" y="0"/>
            <a:chExt cx="7649280" cy="687636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12280" cy="6876360"/>
              <a:chOff x="0" y="0"/>
              <a:chExt cx="3212280" cy="687636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5000" cy="687636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8640" y="0"/>
                <a:ext cx="2753640" cy="116964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9320" y="1986480"/>
              <a:ext cx="7419960" cy="319680"/>
              <a:chOff x="229320" y="1986480"/>
              <a:chExt cx="7419960" cy="319680"/>
            </a:xfrm>
          </p:grpSpPr>
          <p:sp>
            <p:nvSpPr>
              <p:cNvPr id="5" name=""/>
              <p:cNvSpPr/>
              <p:nvPr/>
            </p:nvSpPr>
            <p:spPr>
              <a:xfrm>
                <a:off x="611640" y="1986480"/>
                <a:ext cx="7037640" cy="31788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9320" y="1986480"/>
                <a:ext cx="395280" cy="31968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4240" y="6259680"/>
            <a:ext cx="590400" cy="490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 anchorCtr="1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958430F1-811F-40AB-A108-078493658D5C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90680" cy="6876720"/>
            <a:chOff x="0" y="0"/>
            <a:chExt cx="5890680" cy="687672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90360" cy="687672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8320" y="993240"/>
              <a:ext cx="5202360" cy="19098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46440" y="4903920"/>
            <a:ext cx="4895640" cy="318960"/>
            <a:chOff x="3646440" y="4903920"/>
            <a:chExt cx="4895640" cy="318960"/>
          </a:xfrm>
        </p:grpSpPr>
        <p:sp>
          <p:nvSpPr>
            <p:cNvPr id="52" name=""/>
            <p:cNvSpPr/>
            <p:nvPr/>
          </p:nvSpPr>
          <p:spPr>
            <a:xfrm flipH="1">
              <a:off x="3646440" y="4903920"/>
              <a:ext cx="4644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81080" y="4903920"/>
              <a:ext cx="26100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6320" y="6265440"/>
            <a:ext cx="590400" cy="4906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918096EA-D637-4B25-A0BC-2B3F01665765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8760" y="1272960"/>
            <a:ext cx="7701840" cy="1350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0" y="152280"/>
            <a:ext cx="8721360" cy="6113160"/>
            <a:chOff x="0" y="152280"/>
            <a:chExt cx="8721360" cy="6113160"/>
          </a:xfrm>
        </p:grpSpPr>
        <p:sp>
          <p:nvSpPr>
            <p:cNvPr id="95" name=""/>
            <p:cNvSpPr/>
            <p:nvPr/>
          </p:nvSpPr>
          <p:spPr>
            <a:xfrm>
              <a:off x="382320" y="534600"/>
              <a:ext cx="8339040" cy="573084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152280"/>
              <a:ext cx="8568720" cy="122256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1222200"/>
              <a:ext cx="81097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12360" y="1604880"/>
            <a:ext cx="7954920" cy="4432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458640" y="6265440"/>
            <a:ext cx="2143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3137040" y="626544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6578280" y="6265440"/>
            <a:ext cx="214308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37C46066-09E7-48A4-87E6-EC01F11430FD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"/>
          <p:cNvGrpSpPr/>
          <p:nvPr/>
        </p:nvGrpSpPr>
        <p:grpSpPr>
          <a:xfrm>
            <a:off x="0" y="930240"/>
            <a:ext cx="9027720" cy="4506480"/>
            <a:chOff x="0" y="930240"/>
            <a:chExt cx="9027720" cy="4506480"/>
          </a:xfrm>
        </p:grpSpPr>
        <p:sp>
          <p:nvSpPr>
            <p:cNvPr id="140" name=""/>
            <p:cNvSpPr/>
            <p:nvPr/>
          </p:nvSpPr>
          <p:spPr>
            <a:xfrm>
              <a:off x="688320" y="2075760"/>
              <a:ext cx="7421400" cy="336096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29320" y="930240"/>
              <a:ext cx="7191720" cy="99288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0" y="1388520"/>
              <a:ext cx="9027720" cy="18331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0" y="3069000"/>
              <a:ext cx="833940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29680" y="1429920"/>
            <a:ext cx="8109000" cy="16146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dt" idx="10"/>
          </p:nvPr>
        </p:nvSpPr>
        <p:spPr>
          <a:xfrm>
            <a:off x="458640" y="6265800"/>
            <a:ext cx="214344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 type="ftr" idx="11"/>
          </p:nvPr>
        </p:nvSpPr>
        <p:spPr>
          <a:xfrm>
            <a:off x="3137040" y="627012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 type="sldNum" idx="12"/>
          </p:nvPr>
        </p:nvSpPr>
        <p:spPr>
          <a:xfrm>
            <a:off x="6578280" y="6265800"/>
            <a:ext cx="214308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185392D8-1444-4779-A297-94C5A4D24AAE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4" name=""/>
          <p:cNvGrpSpPr/>
          <p:nvPr/>
        </p:nvGrpSpPr>
        <p:grpSpPr>
          <a:xfrm>
            <a:off x="0" y="0"/>
            <a:ext cx="8721000" cy="4890600"/>
            <a:chOff x="0" y="0"/>
            <a:chExt cx="8721000" cy="4890600"/>
          </a:xfrm>
        </p:grpSpPr>
        <p:sp>
          <p:nvSpPr>
            <p:cNvPr id="185" name=""/>
            <p:cNvSpPr/>
            <p:nvPr/>
          </p:nvSpPr>
          <p:spPr>
            <a:xfrm>
              <a:off x="0" y="0"/>
              <a:ext cx="61164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186" name=""/>
            <p:cNvGrpSpPr/>
            <p:nvPr/>
          </p:nvGrpSpPr>
          <p:grpSpPr>
            <a:xfrm>
              <a:off x="382320" y="1421640"/>
              <a:ext cx="8338680" cy="182520"/>
              <a:chOff x="382320" y="1421640"/>
              <a:chExt cx="8338680" cy="182520"/>
            </a:xfrm>
          </p:grpSpPr>
          <p:sp>
            <p:nvSpPr>
              <p:cNvPr id="187" name=""/>
              <p:cNvSpPr/>
              <p:nvPr/>
            </p:nvSpPr>
            <p:spPr>
              <a:xfrm>
                <a:off x="6885000" y="1421640"/>
                <a:ext cx="18360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382320" y="1497960"/>
                <a:ext cx="833868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 type="dt" idx="13"/>
          </p:nvPr>
        </p:nvSpPr>
        <p:spPr>
          <a:xfrm>
            <a:off x="917280" y="6269040"/>
            <a:ext cx="198900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 type="ftr" idx="14"/>
          </p:nvPr>
        </p:nvSpPr>
        <p:spPr>
          <a:xfrm>
            <a:off x="3365640" y="6265440"/>
            <a:ext cx="298440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 type="sldNum" idx="15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A8E5717B-6ADF-42C5-8277-DDBA22E52A5A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4890960"/>
            <a:ext cx="61272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1" name=""/>
          <p:cNvGrpSpPr/>
          <p:nvPr/>
        </p:nvGrpSpPr>
        <p:grpSpPr>
          <a:xfrm>
            <a:off x="0" y="0"/>
            <a:ext cx="8797320" cy="5958720"/>
            <a:chOff x="0" y="0"/>
            <a:chExt cx="8797320" cy="5958720"/>
          </a:xfrm>
        </p:grpSpPr>
        <p:sp>
          <p:nvSpPr>
            <p:cNvPr id="232" name=""/>
            <p:cNvSpPr/>
            <p:nvPr/>
          </p:nvSpPr>
          <p:spPr>
            <a:xfrm>
              <a:off x="0" y="0"/>
              <a:ext cx="175932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233" name=""/>
            <p:cNvGrpSpPr/>
            <p:nvPr/>
          </p:nvGrpSpPr>
          <p:grpSpPr>
            <a:xfrm>
              <a:off x="0" y="3514320"/>
              <a:ext cx="8797320" cy="2444400"/>
              <a:chOff x="0" y="3514320"/>
              <a:chExt cx="8797320" cy="2444400"/>
            </a:xfrm>
          </p:grpSpPr>
          <p:sp>
            <p:nvSpPr>
              <p:cNvPr id="234" name=""/>
              <p:cNvSpPr/>
              <p:nvPr/>
            </p:nvSpPr>
            <p:spPr>
              <a:xfrm>
                <a:off x="994320" y="3514320"/>
                <a:ext cx="78030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1042200" y="3743280"/>
                <a:ext cx="767844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4889520"/>
                <a:ext cx="9943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237" name=""/>
            <p:cNvGrpSpPr/>
            <p:nvPr/>
          </p:nvGrpSpPr>
          <p:grpSpPr>
            <a:xfrm>
              <a:off x="637560" y="534600"/>
              <a:ext cx="8109000" cy="304920"/>
              <a:chOff x="637560" y="534600"/>
              <a:chExt cx="8109000" cy="304920"/>
            </a:xfrm>
          </p:grpSpPr>
          <p:sp>
            <p:nvSpPr>
              <p:cNvPr id="238" name=""/>
              <p:cNvSpPr/>
              <p:nvPr/>
            </p:nvSpPr>
            <p:spPr>
              <a:xfrm>
                <a:off x="6298560" y="534600"/>
                <a:ext cx="2448000" cy="3049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637560" y="686880"/>
                <a:ext cx="810900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065320" y="1146240"/>
            <a:ext cx="6656400" cy="22161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dt" idx="16"/>
          </p:nvPr>
        </p:nvSpPr>
        <p:spPr>
          <a:xfrm>
            <a:off x="915840" y="6269040"/>
            <a:ext cx="191304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 type="ftr" idx="17"/>
          </p:nvPr>
        </p:nvSpPr>
        <p:spPr>
          <a:xfrm>
            <a:off x="3366720" y="6265440"/>
            <a:ext cx="2908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 type="sldNum" idx="18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23655F25-5DF0-435C-B200-C55FF8BB1E6C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85640" y="198000"/>
            <a:ext cx="7880400" cy="646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ОСНОВНЫЕ ПАРАМЕТРЫ БЮДЖЕТА ДАЛЬНЕРЕЧЕНСКОГО ГОРОДСКОГО ОКРУГА НА 2018 ГОД И ПЛАНОВЫЙ ПЕРИОД 2019-2020 ГОДЫ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6666"/>
                </a:solidFill>
                <a:latin typeface="Times New Roman"/>
              </a:rPr>
              <a:t>(млн.руб)  </a:t>
            </a:r>
            <a:br>
              <a:rPr sz="1000"/>
            </a:br>
            <a:r>
              <a:rPr b="0" lang="ru-RU" sz="1300" spc="-1" strike="noStrike">
                <a:solidFill>
                  <a:srgbClr val="006666"/>
                </a:solidFill>
                <a:latin typeface="Times New Roman"/>
              </a:rPr>
              <a:t>(решение Думы Дальнереченского городского округа от 19.12.2017 № № 106</a:t>
            </a:r>
            <a:br>
              <a:rPr sz="1300"/>
            </a:br>
            <a:r>
              <a:rPr b="0" lang="ru-RU" sz="1300" spc="-1" strike="noStrike">
                <a:solidFill>
                  <a:srgbClr val="006666"/>
                </a:solidFill>
                <a:latin typeface="Times New Roman"/>
              </a:rPr>
              <a:t>"О  бюджете Дальнереченского городского округа на 2018 год и плановый период 2019-2020г.г.«)</a:t>
            </a:r>
            <a:endParaRPr b="1" lang="en-US" sz="13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81" name=""/>
          <p:cNvGraphicFramePr/>
          <p:nvPr/>
        </p:nvGraphicFramePr>
        <p:xfrm>
          <a:off x="701640" y="990720"/>
          <a:ext cx="7777080" cy="5433840"/>
        </p:xfrm>
        <a:graphic>
          <a:graphicData uri="http://schemas.openxmlformats.org/drawingml/2006/table">
            <a:tbl>
              <a:tblPr/>
              <a:tblGrid>
                <a:gridCol w="2241720"/>
                <a:gridCol w="1214280"/>
                <a:gridCol w="1152720"/>
                <a:gridCol w="1008000"/>
                <a:gridCol w="1181160"/>
                <a:gridCol w="979200"/>
              </a:tblGrid>
              <a:tr h="49968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7 год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 год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г к 2017г (%)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96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5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50,0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2,7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97,5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1,4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1,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06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: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08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9,7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21,4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5,8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5,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2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60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бственн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0,3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1,2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1,6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5,5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,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869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з ни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37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4,3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3,4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7,6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1,7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560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8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8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9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7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1,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36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Рас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59,0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4,7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7,1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9,5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6,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369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ефицит (профицит)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8,9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9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8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3,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248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покрытия дефицита, в том числе: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9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79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статки на счете бюджет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2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06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аемные средств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7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2,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765000" y="763560"/>
            <a:ext cx="795672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500" spc="-1" strike="noStrike">
                <a:solidFill>
                  <a:srgbClr val="006666"/>
                </a:solidFill>
                <a:latin typeface="Arial"/>
              </a:rPr>
              <a:t>СТРУКТУРА РАСХОДОВ БЮДЖЕТА ДАЛЬНЕРЕЧЕНСКОГО ГОРОДСКОГО ОКРУГА НА ФИНАНСОВОЕ ОБЕСПЕЧЕНИЕ МУНИЦИПАЛЬНЫХ ПРОГРАММ И НЕПРОГРАММНЫХ НАПРАВЛЕНИЙ НА 2018 ГОД  </a:t>
            </a:r>
            <a:br>
              <a:rPr sz="1500"/>
            </a:br>
            <a:r>
              <a:rPr b="1" lang="en-US" sz="1500" spc="-1" strike="noStrike">
                <a:solidFill>
                  <a:srgbClr val="006666"/>
                </a:solidFill>
                <a:latin typeface="Arial"/>
              </a:rPr>
              <a:t>514,78 млн.руб.</a:t>
            </a:r>
            <a:endParaRPr b="1" lang="en-US" sz="15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05" name=""/>
          <p:cNvGraphicFramePr/>
          <p:nvPr/>
        </p:nvGraphicFramePr>
        <p:xfrm>
          <a:off x="1165320" y="2368440"/>
          <a:ext cx="7076880" cy="373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65320" y="2368440"/>
                    <a:ext cx="7076880" cy="37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772920" y="414360"/>
            <a:ext cx="795636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400" spc="-1" strike="noStrike">
                <a:solidFill>
                  <a:srgbClr val="006666"/>
                </a:solidFill>
                <a:latin typeface="Times New Roman"/>
              </a:rPr>
              <a:t>МП «РАЗВИТИЕ ОБРАЗОВАНИЯ ДАЛЬНЕРЕЧЕНСКОГО ГОРОДСКОГО ОКРУГА» </a:t>
            </a:r>
            <a:br>
              <a:rPr sz="1400"/>
            </a:br>
            <a:r>
              <a:rPr b="1" lang="en-US" sz="1400" spc="-1" strike="noStrike">
                <a:solidFill>
                  <a:srgbClr val="006666"/>
                </a:solidFill>
                <a:latin typeface="Times New Roman"/>
              </a:rPr>
              <a:t>на 2018 год – 328,95 млн.руб. (местный бюджет – 118,36 млн.руб., </a:t>
            </a:r>
            <a:br>
              <a:rPr sz="1400"/>
            </a:br>
            <a:r>
              <a:rPr b="1" lang="en-US" sz="1400" spc="-1" strike="noStrike">
                <a:solidFill>
                  <a:srgbClr val="006666"/>
                </a:solidFill>
                <a:latin typeface="Times New Roman"/>
              </a:rPr>
              <a:t>                                                             краевой бюджет – 210,59 млн.руб.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08" name=""/>
          <p:cNvGraphicFramePr/>
          <p:nvPr/>
        </p:nvGraphicFramePr>
        <p:xfrm>
          <a:off x="557280" y="1494000"/>
          <a:ext cx="8250120" cy="498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7280" y="1494000"/>
                    <a:ext cx="8250120" cy="498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РАЗВИТИЕ КУЛЬТУРЫ НА ТЕРРИТОРИИ ДАЛЬНЕРЕЧЕНСКОГО ГОРОДСКОГО ОКРУГА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8 год - 50,93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915840" y="1282680"/>
          <a:ext cx="7705800" cy="551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5840" y="1282680"/>
                    <a:ext cx="7705800" cy="551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600" spc="-1" strike="noStrike">
                <a:solidFill>
                  <a:srgbClr val="006666"/>
                </a:solidFill>
                <a:latin typeface="Times New Roman"/>
              </a:rPr>
              <a:t>МП «ОБЕСПЕЧЕНИЕ ДОСТУПНЫМ ЖИЛЬЁМ И КАЧЕСТВЕННЫМИ УСЛУГАМИ ЖКХ НАСЕЛЕНИЯ ДАЛЬНЕРЕЧЕНСКОГО ГОРОДСКОГО ОКРУГА» </a:t>
            </a:r>
            <a:br>
              <a:rPr sz="1600"/>
            </a:br>
            <a:r>
              <a:rPr b="1" lang="en-US" sz="1600" spc="-1" strike="noStrike">
                <a:solidFill>
                  <a:srgbClr val="006666"/>
                </a:solidFill>
                <a:latin typeface="Times New Roman"/>
              </a:rPr>
              <a:t>на 2018 год - 13,18 млн.руб.</a:t>
            </a:r>
            <a:endParaRPr b="1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14" name="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РАЗВИТИЕ ТРАНСПОРТНОГО КОМПЛЕКСА НА ТЕРРИТОРИИ ДАЛЬНЕРЕЧЕНСКОГО ГОРОДСКОГО ОКРУГА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8 год - 10,15 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17" name="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898920" y="843840"/>
            <a:ext cx="7607160" cy="954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ЭНЕРГОЭФФЕКТИВНОСТЬ, РАЗВИТИЕ ГАЗОСНАБЖЕНИЯ И ЭНЕРГЕТИКИ В ДАЛЬНЕРЕЧЕНСКОМ ГОРОДСКОМ ОКРУГЕ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8 год - 0,75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20" name=""/>
          <p:cNvGraphicFramePr/>
          <p:nvPr/>
        </p:nvGraphicFramePr>
        <p:xfrm>
          <a:off x="1062000" y="21542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2000" y="21542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905400" y="823320"/>
            <a:ext cx="7756200" cy="826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ФОРМИРОВАНИЕ СОВРЕМЕННОЙ ГОРОДСКОЙ СРЕДЫ ДАЛЬНЕРЕЧЕНСКОГО ГОРОДСКОГО ОКРУГА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8 год – 0,6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23" name="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905400" y="823320"/>
            <a:ext cx="7756200" cy="826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ИНФОРМАЦИОННОЕ ОБЩЕСТВО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8 год – 9,58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26" name="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 txBox="1"/>
          <p:nvPr/>
        </p:nvSpPr>
        <p:spPr>
          <a:xfrm>
            <a:off x="902880" y="4870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ОТДЕЛЬНЫЕ МЕРОПРИЯТИЯ В РАМКАХ МУНИЦИПАЛЬНЫХ ПРОГРАММ ДАЛЬНЕРЕЧЕНСКОГО ГОРОДСКОГО ОКРУГА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8 год – 1,23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29" name=""/>
          <p:cNvGraphicFramePr/>
          <p:nvPr/>
        </p:nvGraphicFramePr>
        <p:xfrm>
          <a:off x="1282680" y="1892160"/>
          <a:ext cx="7290000" cy="4610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82680" y="1892160"/>
                    <a:ext cx="7290000" cy="461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 txBox="1"/>
          <p:nvPr/>
        </p:nvSpPr>
        <p:spPr>
          <a:xfrm>
            <a:off x="228600" y="261720"/>
            <a:ext cx="7896240" cy="61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algn="ct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600" spc="-1" strike="noStrike">
                <a:solidFill>
                  <a:srgbClr val="06072e"/>
                </a:solidFill>
                <a:latin typeface="Arial"/>
              </a:rPr>
              <a:t>РАСХОДЫ НА НЕПРОГРАММНЫЕ НАПРАВЛЕНИЯ ДЕЯТЕЛЬНОСТИ, СОСТАВЛЯЮЩИЕ БОЛЕЕ 5%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РАСХОДОВ, ВКЛЮЧАЯ РЕЗЕРВНЫЙ ФОНД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32" name=""/>
          <p:cNvGraphicFramePr/>
          <p:nvPr/>
        </p:nvGraphicFramePr>
        <p:xfrm>
          <a:off x="630360" y="1235160"/>
          <a:ext cx="7839000" cy="550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0360" y="1235160"/>
                    <a:ext cx="7839000" cy="550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41440" y="270000"/>
            <a:ext cx="8191440" cy="7207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ОСТУПЛЕНИЕ СОБСТВЕННЫХ ДОХОДОВ В МЕСТНЫЙ БЮДЖЕТ ПО ОСНОВНЫМ ИСТОЧНИКАМ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83" name=""/>
          <p:cNvGraphicFramePr/>
          <p:nvPr/>
        </p:nvGraphicFramePr>
        <p:xfrm>
          <a:off x="541440" y="990720"/>
          <a:ext cx="8151840" cy="5682960"/>
        </p:xfrm>
        <a:graphic>
          <a:graphicData uri="http://schemas.openxmlformats.org/drawingml/2006/table">
            <a:tbl>
              <a:tblPr/>
              <a:tblGrid>
                <a:gridCol w="2895480"/>
                <a:gridCol w="1297080"/>
                <a:gridCol w="1008000"/>
                <a:gridCol w="1079640"/>
                <a:gridCol w="1008000"/>
                <a:gridCol w="86364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7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8г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г к 2017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собственных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0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1,2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1,6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5,5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3,2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3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7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1,7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4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доходы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3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91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93,6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96,5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4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и на совокупный дох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9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4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3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кциз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5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5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1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имущество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3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4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7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9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емельный нало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7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4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5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4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,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8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9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7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зем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,1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7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имущ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6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Штраф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3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9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1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та за негативное воздействие на окружающую среду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3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дажа имущ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дажа земельных участк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0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1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неналоговые поступлен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2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600" spc="-1" strike="noStrike">
                <a:solidFill>
                  <a:srgbClr val="330033"/>
                </a:solidFill>
                <a:latin typeface="Times New Roman"/>
              </a:rPr>
              <a:t>ПРЕДЕЛЬНЫЙ ОБЪЕМ УРОВНЯ ДЕФИЦИТА БЮДЖЕТА ДАЛЬНЕРЕЧЕНСКОГО ГОРОДСКОГО ОКРУГА млн.руб.</a:t>
            </a:r>
            <a:endParaRPr b="0" lang="en-US" sz="16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335" name=""/>
          <p:cNvGraphicFramePr/>
          <p:nvPr/>
        </p:nvGraphicFramePr>
        <p:xfrm>
          <a:off x="903240" y="1638360"/>
          <a:ext cx="8007480" cy="4860720"/>
        </p:xfrm>
        <a:graphic>
          <a:graphicData uri="http://schemas.openxmlformats.org/drawingml/2006/table">
            <a:tbl>
              <a:tblPr/>
              <a:tblGrid>
                <a:gridCol w="2606760"/>
                <a:gridCol w="1295280"/>
                <a:gridCol w="1008000"/>
                <a:gridCol w="1008360"/>
                <a:gridCol w="1008000"/>
                <a:gridCol w="1081080"/>
              </a:tblGrid>
              <a:tr h="41976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менование показател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7 год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8 год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8г к 2017г (%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9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0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57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ельный объем уровня дефицита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,98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,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3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7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сточники внутреннего финансирования дефицита бюджета: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луч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9,94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,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9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гаш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37,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6,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6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8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7,3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7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зменение остатков средств на счетах по учету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,24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,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,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41440" y="198000"/>
            <a:ext cx="8153280" cy="792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БЕЗВОЗМЕЗДНЫЕ ПОСТУПЛЕНИЯ ОТ ДРУГИХ БЮДЖЕТОВ БЮДЖЕТНОЙ СИСТЕМЫ РОССИЙСКОЙ ФЕДЕРАЦИИ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85" name=""/>
          <p:cNvGraphicFramePr/>
          <p:nvPr/>
        </p:nvGraphicFramePr>
        <p:xfrm>
          <a:off x="414360" y="990720"/>
          <a:ext cx="8567640" cy="5960880"/>
        </p:xfrm>
        <a:graphic>
          <a:graphicData uri="http://schemas.openxmlformats.org/drawingml/2006/table">
            <a:tbl>
              <a:tblPr/>
              <a:tblGrid>
                <a:gridCol w="4027320"/>
                <a:gridCol w="1244880"/>
                <a:gridCol w="950760"/>
                <a:gridCol w="806400"/>
                <a:gridCol w="804960"/>
                <a:gridCol w="733320"/>
              </a:tblGrid>
              <a:tr h="25920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7г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8г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г к 2017г (%)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94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80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, всего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9,72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21,49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5,89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5,9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2,1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бюджетам городских округов на выравнивание бюджетной обеспеченности и на поддержку мер по обеспечению сбалансированности бюджетов 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71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5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4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4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8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я на содержание МФЦ предоставления государственных и муниципальных услуг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05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07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6,2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592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бюджетам на реализацию федеральных целевых програм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09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бюджетам на реализацию мероприятий и на поддержку государственных программ Российской Федерации, и пр. субсид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48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592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субвенций бюджету Дальнереченского городского округа: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2,65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5,37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5,05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5,06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1,3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государственных гарантий реализации прав на получение дошкольного образования в муниципальных дошкольных образовательных организациях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96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55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55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55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4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реализацию дошкольного, общего и дополнительного образования в муниципальных общеобразовательных учреждениях по основным общеобразовательным программа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4,96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7,31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7,31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7,31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1,9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обучающихся в младших классах (1-4 включительно) бесплатным питание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39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46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46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46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1,3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рганизацию и обеспечение оздоровления и отдыха детей Приморского края (за исключением организации отдыха детей в каникулярное время)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8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7,7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венции на выполнение переданных полномочий Российской Федерации и субъектов Российской Федерац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86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65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33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34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8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 на восстановление автомобильных дорог и мостов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,74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90320" y="228240"/>
            <a:ext cx="7753320" cy="74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СТРУКТУРА ДОХОДОВ БЮДЖЕТА ДАЛЬНЕРЕЧЕНСКОГО ГОРОДСКОГО ОКРУГА НА 2018 ГОД (502,8 млн.руб.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87" name=""/>
          <p:cNvGraphicFramePr/>
          <p:nvPr/>
        </p:nvGraphicFramePr>
        <p:xfrm>
          <a:off x="1127160" y="1235160"/>
          <a:ext cx="7045200" cy="499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27160" y="1235160"/>
                    <a:ext cx="7045200" cy="499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СТРУКТУРА СОБСТВЕННЫХ (НАЛОГОВЫХ И НЕНАЛОГОВЫХ) ДОХОДОВ В 2018 ГОДУ (281,29 млн.руб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90" name=""/>
          <p:cNvGraphicFramePr/>
          <p:nvPr/>
        </p:nvGraphicFramePr>
        <p:xfrm>
          <a:off x="457200" y="1538280"/>
          <a:ext cx="8001000" cy="469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538280"/>
                    <a:ext cx="8001000" cy="469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25080" y="198360"/>
            <a:ext cx="8334360" cy="87624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900" spc="-1" strike="noStrike">
                <a:solidFill>
                  <a:srgbClr val="06072e"/>
                </a:solidFill>
                <a:latin typeface="Times New Roman"/>
              </a:rPr>
              <a:t>СРАВНЕНИЕ ОБЪЕМОВ МЕЖБЮДЖЕТНЫХ ТРАНСФЕРТОВ 2017 И 2018-2020 ГОДОВ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325440" y="1138320"/>
          <a:ext cx="4686120" cy="573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440" y="1138320"/>
                    <a:ext cx="4686120" cy="573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5" name=""/>
          <p:cNvGraphicFramePr/>
          <p:nvPr/>
        </p:nvGraphicFramePr>
        <p:xfrm>
          <a:off x="5240160" y="1141560"/>
          <a:ext cx="3470400" cy="5655960"/>
        </p:xfrm>
        <a:graphic>
          <a:graphicData uri="http://schemas.openxmlformats.org/drawingml/2006/table">
            <a:tbl>
              <a:tblPr/>
              <a:tblGrid>
                <a:gridCol w="1590840"/>
                <a:gridCol w="1879560"/>
              </a:tblGrid>
              <a:tr h="7689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ы межбюджетных трансфер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пределение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1157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венции (от латинского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bvenir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– приходить на помощь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ся на финансирование «переданных» полномоч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7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сидия (от латинского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bsidium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– поддержка)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ся на условиях долевого софинансирования расходов других бюдже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</a:tr>
              <a:tr h="1201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тации (от латинского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tatio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– дар, пожертвование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я без определения конкетной цели их использовани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</a:tr>
              <a:tr h="1370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ые межбюджетные трансферты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ся из бюджетов разного уровня в соответствии с нормативными актами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99880" y="277560"/>
            <a:ext cx="7521480" cy="8571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СТРУКТУРА СУБВЕНЦИЙ НА ВЫПОЛНЕНИЕ ПЕРЕДАВАЕМЫХ ПОЛНОМОЧИЙ В 2018 ГОДУ (215,37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466560" y="1155600"/>
          <a:ext cx="8460000" cy="535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55600"/>
                    <a:ext cx="8460000" cy="535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41440" y="270000"/>
            <a:ext cx="8191440" cy="7207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РАСПРЕДЕЛЕНИЕ БЮДЖЕТНЫХ СРЕДСТВ В ВЕДОМСТВЕННОЙ СТРУКТУРЕ РАСХОДОВ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00" name=""/>
          <p:cNvGraphicFramePr/>
          <p:nvPr/>
        </p:nvGraphicFramePr>
        <p:xfrm>
          <a:off x="541440" y="1351080"/>
          <a:ext cx="8440560" cy="5100480"/>
        </p:xfrm>
        <a:graphic>
          <a:graphicData uri="http://schemas.openxmlformats.org/drawingml/2006/table">
            <a:tbl>
              <a:tblPr/>
              <a:tblGrid>
                <a:gridCol w="3400200"/>
                <a:gridCol w="1440000"/>
                <a:gridCol w="936720"/>
                <a:gridCol w="936360"/>
                <a:gridCol w="790560"/>
                <a:gridCol w="936720"/>
              </a:tblGrid>
              <a:tr h="34920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7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8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г к 2017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8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щегосударственные вопрос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4,5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2,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0,6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5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6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безопасность и правоохранительная деятельность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2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7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448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эконом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1,7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,4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1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1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50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Жилищно-коммунальное хозяйство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6,0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,8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,6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,6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0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9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разование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4,0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0,5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3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3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811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Культура и кинематограф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,6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,5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,5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,5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495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циальная полит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5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9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50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Физическая культура и спор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50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редства массовой информаци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3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служивание государственного и муниципального долг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76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Условно утвержденные рас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07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РАС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59,0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4,7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7,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9,5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2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СТРУКТУРА РАСХОДОВ ДАЛЬНЕРЕЧЕНСКОГО ГОРОДСКОГО ОКРУГА НА 2018 ГОД (514,78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302" name=""/>
          <p:cNvGraphicFramePr/>
          <p:nvPr/>
        </p:nvGraphicFramePr>
        <p:xfrm>
          <a:off x="558720" y="1397160"/>
          <a:ext cx="8178840" cy="510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8720" y="1397160"/>
                    <a:ext cx="8178840" cy="510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user31</cp:lastModifiedBy>
  <dcterms:modified xsi:type="dcterms:W3CDTF">2018-02-01T23:55:44Z</dcterms:modified>
  <cp:revision>140</cp:revision>
  <dc:subject/>
  <dc:title>Структура собственных доходов на 2016 год бюджета Дальнереченского городского округа</dc:title>
</cp:coreProperties>
</file>